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9953-B5D4-4B01-86E9-66E3966D1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6DC1-73CD-418D-94CD-4CA155F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BAF3E7-9FEC-4AF9-A87C-FB5467E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A5AFC-47AF-46DB-9957-F75272E4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35185A-01FF-4907-89CD-0FA685FF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9972D-2D5A-44AB-91FB-17828385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BE4C2-1F0A-4DCD-A957-AEA4CA0B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7F59F-C9EF-4393-BD80-CAC9057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D8E81-8BD2-4AB2-8BEC-74D77CA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1203B2-3E4B-493E-8C2F-7C8FEBC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7E913-FA36-4B60-8199-C88BF0933D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168B-25CF-4BAF-814F-C97D1143C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A61A-00B8-4926-8B70-6B974DB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67C1-8071-499B-8078-AA578E3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F7E5-560F-49DE-97ED-F30190CD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4BA64-5319-4F88-BD6E-5C05CA9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1D2FF-AE17-4D02-B9F8-4B6D6DA7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FA132-0884-44C2-8B8D-85EEDCC1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75F8-3F01-4ED2-83F0-0AC99A6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92627-1B59-4932-B2D6-EB448148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4F60C-0BB0-43FE-AE5B-D627715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1D0C-DAC0-4B36-AACE-7CD4DC16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B6B6-C38D-4B62-B069-969C84B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6D56-8622-4273-93F0-13AB59814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66D40-0112-43AC-AC62-C93B8D4A1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98E18-A768-40EA-8E91-9B65AB72C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55E2C-17EA-4774-89B5-719C55B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A0E1B-CF0F-4310-8075-5685176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53567-4F8F-4432-B32D-563BA14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A89653-23A5-4B53-89CB-E123A111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EDD3E-F4D2-4AB6-8046-06246E0E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55B932-CE1E-4985-95A1-4D8A0CD0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CD5ED-5655-4482-9C85-6989CA58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2FB9F-CB61-4D1C-A44E-E736CD9A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BE194-ACF3-46DA-A91B-272566E1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D5521-16BF-456F-B3D2-183BE6DC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C3F6D-150D-466E-96E5-171BCE6D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0A3A5E-10D7-4847-BD62-949356D13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8414C-6879-4444-BE0C-162CC7BA7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CAB96-50A0-4E1B-909D-84F0425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D9025-883C-45B9-81F2-48B2D5A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2D41B-63F4-41D6-BBC5-EF672E54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E41A9-92D6-495D-8F72-D0478BE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81D49-2E47-4F90-8DD7-B1FDE2D1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000EC-2BE7-4A88-B674-71ACB034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3042D-27C4-4880-8DC3-0EA48D9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A9C1E-99C7-4F69-80ED-8AB1170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4D351-B5DE-48E2-A14F-94D8902D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1B5CA-3F23-44C6-8853-A63CAE08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46B91-0124-4289-9F9C-024C78A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58770-DDFF-4CC0-8277-CE242FABB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799F2-7344-4979-8960-2AE8AD757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05460-F962-4A1D-8128-9C2924CF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B6163-C51E-458C-B331-0B91B164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C3849-7DD8-44B8-BDA1-50F55E2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E9696-23EF-4A23-8119-4E7C0255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9A4D7-DD4E-4C3C-9612-9F148501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10351-0CAD-4DD4-B150-16D454C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97D7D-DEA0-41C9-9807-7DF80BD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31E69-1E6F-4868-8AE4-B1A6E7DD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2900-215E-4CCB-8AA4-CB068A0A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D7C26-758C-44DA-B0C4-5F26826F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1CEFC-9A83-4732-8BD0-5354561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02A20-B089-49C1-8F66-3DB778A11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287CC-76A1-4DF2-9A8C-A5A37B23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02ACD-31B3-4271-9765-4596629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F8B9-AFA8-4876-89A2-2A37010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CE326-A7D7-4D2C-B3E8-6C86EEE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FD032-2612-4057-89FA-379A400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37F50-8618-4E98-8DE1-5CD8CE6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DB0F6-C5BB-4ED2-831C-ADA6A7F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E071-AD62-4986-A1DC-D7982083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F151-BE78-4B86-B55C-F82CCA1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7B93-5C23-42CC-8A53-9885B79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AE97-2861-466F-A417-AE4FE96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0350B-D836-4C0F-870B-DCD04564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DE8B3-56F4-463A-98CC-508C5E98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BA0D1-C65F-4306-A652-4B7B87D5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9F3F-ED03-4C3C-AE70-8EAFFCC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6D676-D332-4401-B12F-B8D0CD6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BD40-1C14-4A7E-850E-7C895A01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56228-90B5-474D-8798-C307E5B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EA7BE-5035-45E0-914E-00A41729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8709E-958E-452F-9E19-FD7E1ACA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4C4E-9402-4733-A910-41FAE56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5367-6260-4013-A29E-2549E0F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B2E91-231E-4C7E-B9B0-EBF97DD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54BE-0D11-45EF-BBFC-284CB06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0AE1A-EF4A-47A3-8CBA-86677AFB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3C5D1-44A3-452F-9A6A-E3A5E905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E80A2-7B6E-4708-ADC7-95EF17F3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C80A6-EB55-4A3A-8BB0-FEE660E9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3D23-A224-46BE-BC1C-7694FD9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1D9CB-50C3-4508-83FB-B6C56471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B916C-33E7-4DC4-9917-7A4D7E20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CCA88-E05B-4B2D-97D4-F62064FF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E4F81-B02E-4E88-A931-D81F257B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B4E09-BE0F-4901-B240-E78E7E1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F747-A6CE-48D7-8F2A-3B8297A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3B35-5DD6-43E7-8335-F812A04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C548-95BB-4A48-9213-822AC92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DCFBC-4B18-46DB-9E42-605868E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ED3C2-84D7-4926-9630-41689D12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4F2BA-B13C-4CFC-B9E4-D9E502C0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CC509-E337-4F40-AA79-14073FB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C811C-0DA6-498B-9B5E-8A27A8F1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A7B49-C9D1-48D5-8D3E-9C095906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E9860-A580-414D-9B4E-E086B81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94029-DF8F-4CF2-8EE4-43386C5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CF3D7-AD66-4D8F-9A1B-B115671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B87A4-D7AD-4178-9356-F97BD4D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2E9F-9B89-4D03-874E-17C63A31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83109-51BB-40AC-BFBE-58E33CB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D7360-B607-4F8B-B3E9-2CD0EA2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CDB2F-B437-40CE-A6A4-AFE41FA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2274B-E9E7-44A9-B9EA-5D6DD2FB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618A4-3B22-4CAA-838D-EFA3ABD0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02455-FC33-4AA0-9971-10927523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C888B-3FDA-4163-81D8-F4BD515E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19DFC-D9E1-4194-ABB3-8927AD0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2AE6D-2596-4A37-BA6D-5B6E2AD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30283-BD7F-4E46-8A3D-CC6DCEF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4D649-5DE9-4FB0-9094-A2A9407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B1AD0-BBA5-46D0-96C2-EEDA7E8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DD042-C56A-494A-B9B9-209B566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56FF0-13A5-4340-94C3-3E41F45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69B2E-5928-42EB-BCB4-17EEA1D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F85C7-08A3-42CD-855F-3E7570A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3C841-1E8D-484C-93FC-F3ABB7C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35329-0CE6-47AF-B582-DAFF57DF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3A5BD-A20B-46C5-B15E-BC2C297B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2799C-D451-497A-8AA8-22EE2A9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C13C1-C3F3-42C2-8D57-0372F77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277CB-A6CE-402C-8154-2758DF3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73AF-E432-4FFB-9823-DD6E29B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E2F69-294B-471C-897D-6F41C4DE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C421D-9B14-4F72-A20B-E9C76420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05622-DAD0-440E-83D1-DA2ED6E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0A87F-624D-4828-9C8C-E11F881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E20D5-4FF0-47C5-9938-FDBBE91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14AD1-E976-4602-A629-88AB1F8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AF6B4-C804-4C80-90F2-17DA351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50095-6914-44E7-8675-32A4826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C6EE9-6458-467F-A869-CA5E0BDF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D9967-0F49-4256-9B48-D1978754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0F0B-E2E4-4A47-9EBD-66A747DF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E1402-4066-4B89-8FD1-BA15ACE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1AEF1-700A-4EE9-8906-1E0A33E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D8C39-44E0-4F1D-A753-2B54639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EC2BE-B652-43C4-A96F-330DEB10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FD9FD-CE11-44D7-BEDC-9E6A0122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9989B-BA03-474F-BFB0-E1FD61C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9F168-7FA9-400A-A9F4-899F63A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7FEC3-0AEB-4B72-B388-0544B80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48833-9310-45A0-8D7D-51B968D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CC147-56A2-4159-97AA-C71CEE87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E79E-55D7-4151-9DA2-47A1EBBB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1AF07-54C4-4E57-BFC5-09357C39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5D190-13B7-450A-A3EA-27990D20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00BBC-FEDC-4824-BCEE-79E0263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C8CAC-EE21-44E8-A81C-4D8E1A2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39809-A688-482E-B43E-1622495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EA21F-3391-4B51-9D10-E659068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847F7-42FB-4C18-A61D-8F68C60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99355-45F0-4CA7-80B7-9A82844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15146-670D-4208-B4FC-47D7C0D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8A7B2-0CB0-47C0-9A81-A566094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7EE8B-5FA3-4599-A815-5D31A0173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1C96F-AE01-4BD5-A4E3-025F0DF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60C9F-7244-46AC-9206-32B0F710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5F479-F88F-473D-B8CE-2B2ECA44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97167-6304-4FA6-92DC-144FEF91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5AC27-CEE5-4FB3-94AD-69086D1A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7AB86-671B-4AF7-BF21-8F4AC33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BFB22-B853-44CA-8C43-ED9EE83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7A0EC7-9A63-4D4E-A001-C470FF32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009A6-4E58-48C1-8D5C-B2420DA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5FB90-A59D-4AA5-B199-06A685D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C36A5-2BA7-4DEE-9551-5CE21C21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1E94A-3D6E-476B-B3C8-F783455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E62DA-D994-477D-9E4A-2D833BC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087DB-71F9-4D50-9EA7-FD9BA73E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68137-2ACF-484C-BB95-D06F059C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9B18F-01F5-4BB0-ACF5-C62DB30D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3C40C-9AB7-4E9C-A97A-238B838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7B1C6-CAFC-4803-A259-0EA6E3AD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C4B71-1BD2-41F8-B9BA-F24C010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401B8-0180-4B86-82FC-0051125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050A4-E5FA-4EA5-9F85-21F5536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683EA-D147-4838-86E7-C45516A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A7877-CCC1-4F39-9A3A-D2E1698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F2C84-7359-4679-B382-C789AE9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4DC36-E9E2-4DB8-B631-09302094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6A18C-1C7B-4366-AED7-C11B5AC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A734A-73DA-459C-B561-8CBA32E4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DB134-7515-4FD8-B944-0D661DF5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DDB57-C19A-49D4-900D-8E5289D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5CE88-4642-4E15-97DF-2E498195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BADF4-FF72-4F55-9E09-BA74EECD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B38CD-822A-4538-9C63-E265437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2D152-D124-40A9-8592-4B1E8C0C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379AB-C547-497B-ADE7-50D1CC9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B11ED-4810-499F-B083-006BA3F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9717C-B020-4A75-B4E4-DAD762C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DBBD5B-A303-451C-9D53-4C45AD30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8587B-11A0-423D-9D5C-7C3CD8B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86EB5-A98F-42C6-8779-B115FF9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D5B68-AF0E-454A-AE6A-42DAB22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3320A-DB5C-40D2-9805-96615B4A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7AA4A-2949-4294-828D-08FDC49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F55FF-D290-4FBB-B0EE-72B8BA77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B063-A0AC-4B1A-94EC-B66955C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BF31B-6ECA-4BBF-A13F-7FA49967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DEA5A-720A-43EF-8C82-F5AAB51D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68DAE-A807-48CB-99C0-485AEA4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9E397-B4FB-4138-9EE2-8487E46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D3905-4F91-4C8B-A1B4-B5BECCB0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59B2A-A5CA-465B-8A8E-9B5C8A0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A7F3E-7C62-40CD-83A6-F1CAA9000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8103-0E5A-4A02-ACDC-34903AAD9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0B33-B697-46EA-A109-F479D9B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777A-AAC8-4236-9DF4-FE65451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5464-7CC8-427B-842D-A2F1A51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1E6B-DA45-41F1-8C86-6DF8630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AFA3-CAC2-497B-ACB0-412F640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C218-6415-4916-8A05-7F62BDDF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0EFA-D104-43A9-8366-3D2AA525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5E8D-395E-4F6E-B567-3E9B2F2F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E70A-903B-48E0-9154-3B8C480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E71B-B30D-48C1-A371-E8A14AD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9A13-B054-4815-92BA-C6CF3D6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EC4A-16D7-47F3-BFFD-C8437E04D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A90E7-A9A9-4100-B270-0F2A5BF03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B44C-A1C2-49F2-9468-6F6EBC66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5C2CB-2D84-4C1F-8CCE-577E4795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08B38-42A5-46A6-965B-9A28596B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BBA1B-76AB-4265-9F83-D4A3E90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FBC28D-DA36-4B7F-86E3-FBF3AC2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93402-E28C-4151-81FF-E895391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0DF51-C068-4BF6-AD20-3564BBD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2C29B-F7A5-435B-A2E8-BDE79910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9FBCD-659E-40C5-965C-C883E3D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56B6E-3C83-4C29-AE69-EF4FF597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85256-8EC4-45B4-AA9C-7CADF1DB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E865-D844-48C8-8D9C-6FFE9342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3F254-BEF6-4671-901D-F02DF9879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7D021A-F783-406F-86D9-C4C4C69C9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DEB64-9E59-42E7-8576-A35CF4C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80C29-50E5-46EA-83E3-2F4B194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95278-A2A8-4A15-85D7-179613C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21690-BE7D-495D-BC6F-508B5C78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09061-94B8-4FA1-BDA8-53D39281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B6636-3459-4258-9A67-2C53FC4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773DF-CD00-4C86-A4AE-7DC9AB8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88DC9-E647-4C2D-9091-08401B73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F04B-6C64-4D2C-9D56-CF7C207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D58C1-4C36-4D7A-9416-4CBF8A8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A022E-4973-477E-A417-84F5DDE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B8171-588D-445F-A872-E83047D0D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C6D5-26A8-4299-BF42-801D02C1F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B82E-D268-477C-A38B-2C309F2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1B83-862F-47C9-9456-F406E0C1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0497-C951-4D19-84BF-8A420DE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7ECD-E300-45E8-AD7C-AC2C2403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28EC-E311-4907-9878-4FCD3D14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BFDD-76D8-49BD-A362-608965A1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34F2-1C3F-45C8-913D-2480387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9918-F3E7-4359-9F99-B642F52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E448-B592-45EE-9C94-4C2820F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57F18-D61C-4E87-A222-E8C5E91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1591B-DE6E-48AA-BC08-D1D0978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53BD-B4CC-40E2-8FFE-DB499D83A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BC636-BD1B-49C5-AAB0-68348F986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BA6ED-3F4D-4477-A671-0385AF3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BC95F-2714-4D1D-A562-AD8D8AF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435B8-4331-4BA8-B955-FE2D95FE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0FD0B-5FFA-4D6F-952F-6B79F727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93F4-8C11-47AC-A94C-B6E2E798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83024-AE32-4183-B2A2-20FA6667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EF67C-3720-48B6-ABE6-9DBDA7B7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D4CF9-2F7F-4796-9420-8200C3B4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50336-C61B-42B4-90FD-DF91D4FB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BF20B-1123-4BEE-8392-B733F54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C2B95-578C-4410-9C96-C1851AC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5D372-B0D4-4BBA-A5B9-5E3279F34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4488A-A87D-46C1-B818-9E0ECECD1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D3EE85-70D8-4CBC-8016-FCD000F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DBDDC0-1C18-40B3-B251-A0165F9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BAA-3760-405B-9CDD-8418F6883E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7B1-1DFE-4C85-8E58-E6917AB22D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6EA-61C2-4D2F-92A1-6CE671EBF9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C37-CDD5-42BD-AA15-DC8BB7199A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429-ECC4-403E-922D-E7FCF1539E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4C2-B6D3-4C04-B1E9-78276DAA5E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AC0-D9D5-4A73-B451-A60FE8926BC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727-E735-4A97-82A4-D2D4C1577D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2E8-B9E5-488B-95DF-E9C4023098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D82-ADD4-4AB9-B37F-E0E6206A05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5D0-1660-4508-8982-10C6097F05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584-D13E-468A-A16C-53C23F0D2D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2C9-8B13-4C66-8978-710CB50B17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66CF-862A-4E03-BADC-C9CB0FC89CC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E82C-97CF-469B-AD6A-A32A0E0E8B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605-3248-449D-ACEB-55783A2C27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160C-3AD1-49F1-AD1F-FC3EDA0E31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E58-1B29-4241-8693-A4039DFBB6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813-8D58-4427-8E3A-B25B945895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61F-9DA8-4C0D-9DB9-9C6AD482B0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6BD-B89D-420C-A195-F640027EBC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8D4-674B-4E91-B8E1-F8A90DCD25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C1B-0EFE-4075-B984-4D16D486D1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7486-1016-4264-AF9D-3EB618D3D7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050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读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8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99"/>
          <p:cNvSpPr/>
          <p:nvPr/>
        </p:nvSpPr>
        <p:spPr>
          <a:xfrm>
            <a:off x="203040" y="744480"/>
            <a:ext cx="8382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四个数中，一个零也不读出来的是（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00600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06000 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00006 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00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下列数中，（   ）读作三千零二十万六千零九十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2060099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206099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2060909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020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数中，只读一个零的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06500  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8000530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60908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6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1"/>
          <p:cNvSpPr/>
          <p:nvPr/>
        </p:nvSpPr>
        <p:spPr>
          <a:xfrm>
            <a:off x="5381640" y="134928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2"/>
          <p:cNvSpPr/>
          <p:nvPr/>
        </p:nvSpPr>
        <p:spPr>
          <a:xfrm>
            <a:off x="2333520" y="224784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"/>
          <p:cNvSpPr/>
          <p:nvPr/>
        </p:nvSpPr>
        <p:spPr>
          <a:xfrm>
            <a:off x="4138560" y="316080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"/>
          <p:cNvSpPr txBox="1"/>
          <p:nvPr/>
        </p:nvSpPr>
        <p:spPr>
          <a:xfrm>
            <a:off x="457200" y="1143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出下面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08                                  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09                                  15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914400" y="2209680"/>
            <a:ext cx="3505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读作：二千三百零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000760" y="2209680"/>
            <a:ext cx="30002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读作：五千六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928800" y="3809880"/>
            <a:ext cx="27860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读作：七千零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952880" y="380988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读作：一千五百六十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1"/>
          <p:cNvSpPr/>
          <p:nvPr/>
        </p:nvSpPr>
        <p:spPr>
          <a:xfrm>
            <a:off x="1020960" y="1126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12295"/>
          <p:cNvSpPr/>
          <p:nvPr/>
        </p:nvSpPr>
        <p:spPr>
          <a:xfrm>
            <a:off x="593640" y="46846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说说你是怎样读的。（小结万以内数的读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7" name="Rectangle 21"/>
          <p:cNvSpPr/>
          <p:nvPr/>
        </p:nvSpPr>
        <p:spPr>
          <a:xfrm>
            <a:off x="1618920" y="1126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13318"/>
          <p:cNvSpPr/>
          <p:nvPr/>
        </p:nvSpPr>
        <p:spPr>
          <a:xfrm>
            <a:off x="1328400" y="1519200"/>
            <a:ext cx="523296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   百   十   万     千   百   十   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   万   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位   位   位   位     位   位   位 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4     9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4     9    6      0     0     0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 0    8      0     0     0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0     5    0      0     0     0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1374840" y="2990880"/>
            <a:ext cx="5105160" cy="360"/>
            <a:chOff x="1374840" y="2990880"/>
            <a:chExt cx="5105160" cy="360"/>
          </a:xfrm>
        </p:grpSpPr>
        <p:sp>
          <p:nvSpPr>
            <p:cNvPr id="1030" name="直接连接符 13319"/>
            <p:cNvSpPr/>
            <p:nvPr/>
          </p:nvSpPr>
          <p:spPr>
            <a:xfrm>
              <a:off x="1374840" y="29908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1374840" y="299088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965400" y="1542960"/>
            <a:ext cx="360" cy="3276720"/>
            <a:chOff x="3965400" y="1542960"/>
            <a:chExt cx="360" cy="3276720"/>
          </a:xfrm>
        </p:grpSpPr>
        <p:sp>
          <p:nvSpPr>
            <p:cNvPr id="1033" name="直接连接符 13320"/>
            <p:cNvSpPr/>
            <p:nvPr/>
          </p:nvSpPr>
          <p:spPr>
            <a:xfrm>
              <a:off x="3965400" y="154296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3965400" y="154296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八边形 7"/>
          <p:cNvSpPr/>
          <p:nvPr/>
        </p:nvSpPr>
        <p:spPr>
          <a:xfrm>
            <a:off x="298440" y="7761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3"/>
          <p:cNvSpPr/>
          <p:nvPr/>
        </p:nvSpPr>
        <p:spPr>
          <a:xfrm>
            <a:off x="1190520" y="80496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读出下面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4"/>
          <p:cNvGrpSpPr/>
          <p:nvPr/>
        </p:nvGrpSpPr>
        <p:grpSpPr>
          <a:xfrm>
            <a:off x="431640" y="857160"/>
            <a:ext cx="8026200" cy="1009440"/>
            <a:chOff x="431640" y="857160"/>
            <a:chExt cx="8026200" cy="1009440"/>
          </a:xfrm>
        </p:grpSpPr>
        <p:grpSp>
          <p:nvGrpSpPr>
            <p:cNvPr id="1038" name="组合 1"/>
            <p:cNvGrpSpPr/>
            <p:nvPr/>
          </p:nvGrpSpPr>
          <p:grpSpPr>
            <a:xfrm>
              <a:off x="431640" y="857160"/>
              <a:ext cx="1884240" cy="459720"/>
              <a:chOff x="431640" y="857160"/>
              <a:chExt cx="1884240" cy="459720"/>
            </a:xfrm>
          </p:grpSpPr>
          <p:sp>
            <p:nvSpPr>
              <p:cNvPr id="1039" name="TextBox 3"/>
              <p:cNvSpPr/>
              <p:nvPr/>
            </p:nvSpPr>
            <p:spPr>
              <a:xfrm>
                <a:off x="536040" y="857160"/>
                <a:ext cx="177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理解题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缺角矩形 37"/>
              <p:cNvSpPr/>
              <p:nvPr/>
            </p:nvSpPr>
            <p:spPr>
              <a:xfrm>
                <a:off x="431640" y="977760"/>
                <a:ext cx="215640" cy="21600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6000"/>
                  <a:gd name="textAreaBottom" fmla="*/ 190800 h 216000"/>
                </a:gdLst>
                <a:ahLst/>
                <a:rect l="textAreaLeft" t="textAreaTop" r="textAreaRight" b="textAreaBottom"/>
                <a:pathLst>
                  <a:path w="21600" h="21636">
                    <a:moveTo>
                      <a:pt x="3600" y="0"/>
                    </a:moveTo>
                    <a:arcTo wR="3600" hR="3600" stAng="0" swAng="5400000"/>
                    <a:lnTo>
                      <a:pt x="0" y="18036"/>
                    </a:lnTo>
                    <a:arcTo wR="3600" hR="3600" stAng="16200000" swAng="5400000"/>
                    <a:lnTo>
                      <a:pt x="18000" y="21636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文本框 3"/>
            <p:cNvSpPr/>
            <p:nvPr/>
          </p:nvSpPr>
          <p:spPr>
            <a:xfrm>
              <a:off x="781920" y="1406880"/>
              <a:ext cx="76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题中给了我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数，其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9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我们以前学过的万以内的数，读作：二千四百九十六。读出其他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8"/>
          <p:cNvGrpSpPr/>
          <p:nvPr/>
        </p:nvGrpSpPr>
        <p:grpSpPr>
          <a:xfrm>
            <a:off x="428760" y="2598840"/>
            <a:ext cx="6432480" cy="2421360"/>
            <a:chOff x="428760" y="2598840"/>
            <a:chExt cx="6432480" cy="2421360"/>
          </a:xfrm>
        </p:grpSpPr>
        <p:grpSp>
          <p:nvGrpSpPr>
            <p:cNvPr id="1043" name="组合 41"/>
            <p:cNvGrpSpPr/>
            <p:nvPr/>
          </p:nvGrpSpPr>
          <p:grpSpPr>
            <a:xfrm>
              <a:off x="428760" y="2598840"/>
              <a:ext cx="2147760" cy="459720"/>
              <a:chOff x="428760" y="2598840"/>
              <a:chExt cx="2147760" cy="459720"/>
            </a:xfrm>
          </p:grpSpPr>
          <p:sp>
            <p:nvSpPr>
              <p:cNvPr id="1044" name="TextBox 3"/>
              <p:cNvSpPr/>
              <p:nvPr/>
            </p:nvSpPr>
            <p:spPr>
              <a:xfrm>
                <a:off x="533160" y="259884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规范解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缺角矩形 43"/>
              <p:cNvSpPr/>
              <p:nvPr/>
            </p:nvSpPr>
            <p:spPr>
              <a:xfrm>
                <a:off x="428760" y="27194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文本框 6"/>
            <p:cNvSpPr/>
            <p:nvPr/>
          </p:nvSpPr>
          <p:spPr>
            <a:xfrm>
              <a:off x="810360" y="3280320"/>
              <a:ext cx="6050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9600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读作：二千四百九十六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800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读作：三百零八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5000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读作：四千零五十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5288040"/>
            <a:ext cx="464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宋体"/>
              </a:rPr>
              <a:t>问题：试读上面这些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2"/>
          <p:cNvSpPr/>
          <p:nvPr/>
        </p:nvSpPr>
        <p:spPr>
          <a:xfrm>
            <a:off x="4751280" y="3044880"/>
            <a:ext cx="401184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读作：五万四千六百二十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读作： 六百四十万七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读作： 一千零三万零四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图片 14339" descr=""/>
          <p:cNvPicPr/>
          <p:nvPr/>
        </p:nvPicPr>
        <p:blipFill>
          <a:blip r:embed="rId1"/>
          <a:stretch/>
        </p:blipFill>
        <p:spPr>
          <a:xfrm>
            <a:off x="533520" y="1292400"/>
            <a:ext cx="4138560" cy="3501720"/>
          </a:xfrm>
          <a:prstGeom prst="rect">
            <a:avLst/>
          </a:prstGeom>
          <a:ln w="0">
            <a:noFill/>
          </a:ln>
        </p:spPr>
      </p:pic>
      <p:grpSp>
        <p:nvGrpSpPr>
          <p:cNvPr id="10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1" name="八边形 1"/>
          <p:cNvSpPr/>
          <p:nvPr/>
        </p:nvSpPr>
        <p:spPr>
          <a:xfrm>
            <a:off x="298440" y="7002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5361" descr="12"/>
          <p:cNvPicPr/>
          <p:nvPr/>
        </p:nvPicPr>
        <p:blipFill>
          <a:blip r:embed="rId1"/>
          <a:stretch/>
        </p:blipFill>
        <p:spPr>
          <a:xfrm>
            <a:off x="228600" y="1782720"/>
            <a:ext cx="8610480" cy="263700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2"/>
          <p:cNvSpPr/>
          <p:nvPr/>
        </p:nvSpPr>
        <p:spPr>
          <a:xfrm>
            <a:off x="533520" y="773280"/>
            <a:ext cx="446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问题：含有两级的数怎么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10"/>
          <p:cNvSpPr/>
          <p:nvPr/>
        </p:nvSpPr>
        <p:spPr>
          <a:xfrm>
            <a:off x="2016000" y="178596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11"/>
          <p:cNvSpPr/>
          <p:nvPr/>
        </p:nvSpPr>
        <p:spPr>
          <a:xfrm>
            <a:off x="4452840" y="1776240"/>
            <a:ext cx="5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13"/>
          <p:cNvSpPr/>
          <p:nvPr/>
        </p:nvSpPr>
        <p:spPr>
          <a:xfrm>
            <a:off x="5460840" y="3233880"/>
            <a:ext cx="109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不 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4"/>
          <p:cNvSpPr/>
          <p:nvPr/>
        </p:nvSpPr>
        <p:spPr>
          <a:xfrm>
            <a:off x="5181480" y="3691080"/>
            <a:ext cx="200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只读一个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9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16385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8075520" y="4495680"/>
            <a:ext cx="993960" cy="1095480"/>
          </a:xfrm>
          <a:prstGeom prst="rect">
            <a:avLst/>
          </a:prstGeom>
          <a:ln w="0">
            <a:noFill/>
          </a:ln>
        </p:spPr>
      </p:pic>
      <p:sp>
        <p:nvSpPr>
          <p:cNvPr id="1080" name="文本框 16386"/>
          <p:cNvSpPr/>
          <p:nvPr/>
        </p:nvSpPr>
        <p:spPr>
          <a:xfrm>
            <a:off x="921960" y="2795760"/>
            <a:ext cx="523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   百   十   万     千   百   十   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   万   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位   位   位   位     位   位   位 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  6      9     2     0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 7    0      6     0     0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0     0    8      0     5     0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68400" y="4267080"/>
            <a:ext cx="5105520" cy="360"/>
            <a:chOff x="968400" y="4267080"/>
            <a:chExt cx="5105520" cy="360"/>
          </a:xfrm>
        </p:grpSpPr>
        <p:sp>
          <p:nvSpPr>
            <p:cNvPr id="1082" name="直接连接符 16387"/>
            <p:cNvSpPr/>
            <p:nvPr/>
          </p:nvSpPr>
          <p:spPr>
            <a:xfrm>
              <a:off x="968400" y="42670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968400" y="426708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559320" y="2819520"/>
            <a:ext cx="360" cy="3276360"/>
            <a:chOff x="3559320" y="2819520"/>
            <a:chExt cx="360" cy="3276360"/>
          </a:xfrm>
        </p:grpSpPr>
        <p:sp>
          <p:nvSpPr>
            <p:cNvPr id="1085" name="直接连接符 16388"/>
            <p:cNvSpPr/>
            <p:nvPr/>
          </p:nvSpPr>
          <p:spPr>
            <a:xfrm>
              <a:off x="3559320" y="281952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3559320" y="2819520"/>
              <a:ext cx="360" cy="32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文本框 16389"/>
          <p:cNvSpPr/>
          <p:nvPr/>
        </p:nvSpPr>
        <p:spPr>
          <a:xfrm>
            <a:off x="339840" y="2805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书宋简体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16390"/>
          <p:cNvGrpSpPr/>
          <p:nvPr/>
        </p:nvGrpSpPr>
        <p:grpSpPr>
          <a:xfrm>
            <a:off x="239760" y="835200"/>
            <a:ext cx="6389640" cy="1594800"/>
            <a:chOff x="239760" y="835200"/>
            <a:chExt cx="6389640" cy="1594800"/>
          </a:xfrm>
        </p:grpSpPr>
        <p:sp>
          <p:nvSpPr>
            <p:cNvPr id="1089" name="矩形 16391"/>
            <p:cNvSpPr/>
            <p:nvPr/>
          </p:nvSpPr>
          <p:spPr>
            <a:xfrm>
              <a:off x="239760" y="835200"/>
              <a:ext cx="5670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读出下面每组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6392"/>
            <p:cNvSpPr/>
            <p:nvPr/>
          </p:nvSpPr>
          <p:spPr>
            <a:xfrm>
              <a:off x="455760" y="1414440"/>
              <a:ext cx="61736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4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4 0000             3004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4 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40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40 0000         3040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40 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1617840" y="1414440"/>
              <a:ext cx="360" cy="502560"/>
              <a:chOff x="1617840" y="1414440"/>
              <a:chExt cx="360" cy="502560"/>
            </a:xfrm>
          </p:grpSpPr>
          <p:sp>
            <p:nvSpPr>
              <p:cNvPr id="1092" name="直接连接符 16393"/>
              <p:cNvSpPr/>
              <p:nvPr/>
            </p:nvSpPr>
            <p:spPr>
              <a:xfrm>
                <a:off x="1617840" y="1414440"/>
                <a:ext cx="0" cy="502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 txBox="1"/>
              <p:nvPr/>
            </p:nvSpPr>
            <p:spPr>
              <a:xfrm>
                <a:off x="1617840" y="1414440"/>
                <a:ext cx="360" cy="50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4689360" y="1414440"/>
              <a:ext cx="360" cy="502560"/>
              <a:chOff x="4689360" y="1414440"/>
              <a:chExt cx="360" cy="502560"/>
            </a:xfrm>
          </p:grpSpPr>
          <p:sp>
            <p:nvSpPr>
              <p:cNvPr id="1095" name="直接连接符 16394"/>
              <p:cNvSpPr/>
              <p:nvPr/>
            </p:nvSpPr>
            <p:spPr>
              <a:xfrm>
                <a:off x="4689360" y="1414440"/>
                <a:ext cx="0" cy="502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 txBox="1"/>
              <p:nvPr/>
            </p:nvSpPr>
            <p:spPr>
              <a:xfrm>
                <a:off x="4689360" y="1414440"/>
                <a:ext cx="360" cy="50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1905120" y="1927080"/>
              <a:ext cx="360" cy="502920"/>
              <a:chOff x="1905120" y="1927080"/>
              <a:chExt cx="360" cy="502920"/>
            </a:xfrm>
          </p:grpSpPr>
          <p:sp>
            <p:nvSpPr>
              <p:cNvPr id="1098" name="直接连接符 16395"/>
              <p:cNvSpPr/>
              <p:nvPr/>
            </p:nvSpPr>
            <p:spPr>
              <a:xfrm>
                <a:off x="1905120" y="1927080"/>
                <a:ext cx="0" cy="502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 txBox="1"/>
              <p:nvPr/>
            </p:nvSpPr>
            <p:spPr>
              <a:xfrm>
                <a:off x="1905120" y="1927080"/>
                <a:ext cx="360" cy="50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4689360" y="1925280"/>
              <a:ext cx="360" cy="502920"/>
              <a:chOff x="4689360" y="1925280"/>
              <a:chExt cx="360" cy="502920"/>
            </a:xfrm>
          </p:grpSpPr>
          <p:sp>
            <p:nvSpPr>
              <p:cNvPr id="1101" name="直接连接符 16396"/>
              <p:cNvSpPr/>
              <p:nvPr/>
            </p:nvSpPr>
            <p:spPr>
              <a:xfrm>
                <a:off x="4689360" y="1925280"/>
                <a:ext cx="0" cy="502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>
                <a:off x="4689360" y="1925280"/>
                <a:ext cx="360" cy="50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文本框 16397"/>
          <p:cNvSpPr/>
          <p:nvPr/>
        </p:nvSpPr>
        <p:spPr>
          <a:xfrm>
            <a:off x="6760800" y="42670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书宋简体"/>
              </a:rPr>
              <a:t>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椭圆形标注 16398"/>
          <p:cNvSpPr/>
          <p:nvPr/>
        </p:nvSpPr>
        <p:spPr>
          <a:xfrm>
            <a:off x="6248520" y="4191120"/>
            <a:ext cx="1752480" cy="685800"/>
          </a:xfrm>
          <a:prstGeom prst="wedgeEllipseCallout">
            <a:avLst>
              <a:gd name="adj1" fmla="val 50180"/>
              <a:gd name="adj2" fmla="val 55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6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9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2"/>
          <p:cNvSpPr/>
          <p:nvPr/>
        </p:nvSpPr>
        <p:spPr>
          <a:xfrm>
            <a:off x="971640" y="2495520"/>
            <a:ext cx="496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小组交流：怎样读比较方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"/>
          <p:cNvSpPr/>
          <p:nvPr/>
        </p:nvSpPr>
        <p:spPr>
          <a:xfrm>
            <a:off x="976320" y="2987640"/>
            <a:ext cx="38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先分级，比较容易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"/>
          <p:cNvSpPr/>
          <p:nvPr/>
        </p:nvSpPr>
        <p:spPr>
          <a:xfrm>
            <a:off x="682560" y="4076640"/>
            <a:ext cx="741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同桌各写一个数，互相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17412"/>
          <p:cNvGrpSpPr/>
          <p:nvPr/>
        </p:nvGrpSpPr>
        <p:grpSpPr>
          <a:xfrm>
            <a:off x="684360" y="893880"/>
            <a:ext cx="7611480" cy="1385640"/>
            <a:chOff x="684360" y="893880"/>
            <a:chExt cx="7611480" cy="1385640"/>
          </a:xfrm>
        </p:grpSpPr>
        <p:sp>
          <p:nvSpPr>
            <p:cNvPr id="1121" name="Rectangle 2"/>
            <p:cNvSpPr/>
            <p:nvPr/>
          </p:nvSpPr>
          <p:spPr>
            <a:xfrm>
              <a:off x="684360" y="893880"/>
              <a:ext cx="4966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组交流，怎样读比较方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17414"/>
            <p:cNvSpPr/>
            <p:nvPr/>
          </p:nvSpPr>
          <p:spPr>
            <a:xfrm>
              <a:off x="995040" y="1390680"/>
              <a:ext cx="73008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2680       5205000      1200605       1070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70050     3070800      30600900     1000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32"/>
          <p:cNvSpPr/>
          <p:nvPr/>
        </p:nvSpPr>
        <p:spPr>
          <a:xfrm>
            <a:off x="365040" y="6494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整万数的读法：万级上的数，按照个级的读法来读，   再在后面加上一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含有两级的数的读法：①从高位读起，先读万级，再读个级。②读万级时，按照个级的读法去读，再在后面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字。③每级末尾不管有几个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都不读，其他数位上有一个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者连续几个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都只读一个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41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